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2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31.wmf" ContentType="image/x-wmf"/>
  <Override PartName="/ppt/media/image29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72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968F17-DA2A-4910-BAA1-28AA7D51D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4B0AA2-52AE-45D0-8DE5-A0FCD889B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740059-7D37-46E5-9A1A-C7A2B5142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23DF7C-FCCF-4D33-A755-A5DD83F5E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616DD7-C459-41F5-9B2E-643427B2C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98D478-8172-4042-A4C7-3E4C7E81E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E6E1DA-3B2C-4033-B272-66BD4248A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ED16DD-C3B1-459D-B9FD-6C629809C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F14DD6-AE7B-4C2B-A49E-F10C9397F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A58FA0-1D8C-4C15-9866-45B524AA5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EFD148-3943-41F5-8BA6-80418412E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9EECC1-7162-4038-A774-3356ECD65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063967-BEF7-48DD-8A13-02AF8D081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BEBA07-8540-422D-A1DD-BA44D45EF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C46F9D-868E-4D83-9313-2C97BB44E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3AD8CB-90D1-4668-92C9-91480CC11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013DE8-A1C3-4294-B26E-9BAAC3518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5158B6-5B19-4FF2-B5BC-F6AE5EBA2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6C2D0D-CDD6-4245-AC83-8993EF8DA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3FE6AA-4A89-43C8-AA0B-9798EF573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0E320B-4E84-43D6-893A-01D43AAD7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C23985-BA81-4153-ADC2-D07DCFBB4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C6D45E-B05D-484D-879E-D95E64040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A6C5FA-577D-4BEB-BC32-B22782A37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3E0E25-C26D-4E54-9186-B700A3545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C4FEB4-BD38-4334-9123-F1FAE63C1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0F38CD-FD67-4B3B-9AB8-E1061AA04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004BAA-FCB1-4076-98EB-6E227A544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6E0AB0-56D2-4DD2-B0AB-FDF923B42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D91465-72F5-4323-82DE-AE9CE94A4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06ADE9-F81A-4EDD-9DD1-D3AEDB97B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C35AFD-A1E9-4EB8-AE70-87E81436F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F5D419-2CFB-4F09-BAD4-328D4D593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09E7F5-DDBA-4AEC-B1A3-54EBF4A28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D2AB21-A724-40F6-B0F3-45219E056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715E17-E895-4D45-B902-62BED42E1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8478BF-3554-40E0-95FD-D7EDAAC9E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BC1D61-CD2F-4C73-B4A4-5B9E7EF63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455DE-4D7D-4DB2-87B7-DEFB03E2BC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DE986-0EC7-40AB-B4E8-D2D44A78A5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3AFA3-6099-4860-9A77-21DBC6791C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66BD0-89F7-4E6C-807D-262A2E4785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3D26F-FC7F-461D-8544-430E233A70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92DC7-4B76-4B14-9ECA-94EE2FAD8C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AD9B9-2DD2-428A-9FCB-DF2365827C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B055F-31F3-4063-8EC5-A2E0CBB909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FD758-1001-4D7A-86F2-C937A62431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49B8B-A866-4A54-8FED-BC32D248DF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E7E27-1581-4F45-9BAA-5C838C6595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11D02-2183-452A-9A0D-527E96CF8F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tbb1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7" descr="logotr2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tbb1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0" y="6381360"/>
            <a:ext cx="37800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3995640" y="6381360"/>
            <a:ext cx="7192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A2CA-C16F-4F9C-A309-5340BB64DC36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5" descr="logotr2"/>
          <p:cNvPicPr/>
          <p:nvPr/>
        </p:nvPicPr>
        <p:blipFill>
          <a:blip r:embed="rId3"/>
          <a:stretch/>
        </p:blipFill>
        <p:spPr>
          <a:xfrm>
            <a:off x="8321760" y="6021360"/>
            <a:ext cx="82224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9"/>
          <p:cNvSpPr/>
          <p:nvPr/>
        </p:nvSpPr>
        <p:spPr>
          <a:xfrm>
            <a:off x="20520" y="3198960"/>
            <a:ext cx="9144000" cy="47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Ekonomide ve Bankacılık Sektörün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Gelişm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Hüseyin Aydı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Yönetim Kurulu Başkan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Mayıs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C2A4-5EC3-462F-A775-7EEFF6C00E67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"/>
          <p:cNvSpPr/>
          <p:nvPr/>
        </p:nvSpPr>
        <p:spPr>
          <a:xfrm>
            <a:off x="0" y="33480"/>
            <a:ext cx="8893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Proje</a:t>
            </a: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kredile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008000" y="1338120"/>
            <a:ext cx="705960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C2F8-0FEF-4A70-B553-DBF1794BD7C5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-20520" y="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Kredi kalite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"/>
          <p:cNvSpPr/>
          <p:nvPr/>
        </p:nvSpPr>
        <p:spPr>
          <a:xfrm>
            <a:off x="302400" y="459252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DDK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-28440" y="1297080"/>
            <a:ext cx="4600440" cy="2852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" descr=""/>
          <p:cNvPicPr/>
          <p:nvPr/>
        </p:nvPicPr>
        <p:blipFill>
          <a:blip r:embed="rId2"/>
          <a:stretch/>
        </p:blipFill>
        <p:spPr>
          <a:xfrm>
            <a:off x="4560840" y="1297080"/>
            <a:ext cx="45831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A11C-2EE1-4874-83E1-17F4A8DB1A9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-20520" y="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Yapılandırılan kred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5200" y="1268280"/>
            <a:ext cx="45464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Küresel, bölgesel veya jeopolitik nedenler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fon akımı bozu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bireysel ve kurum</a:t>
            </a: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sa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l müşteriler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gerekli kolaylıklar sağlanmaktadı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Anca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mali durumu sürekli sorunlu ve iyileşemeyecek müşteriler için kurallar uygulanmakta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4597560" y="1700280"/>
            <a:ext cx="4565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AD12-C491-4CA7-AE84-35406F30C6C0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256320" y="463392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"/>
          <p:cNvSpPr/>
          <p:nvPr/>
        </p:nvSpPr>
        <p:spPr>
          <a:xfrm>
            <a:off x="0" y="0"/>
            <a:ext cx="911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Mevduat daha sınırl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0" y="1268280"/>
            <a:ext cx="4575240" cy="288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2"/>
          <a:stretch/>
        </p:blipFill>
        <p:spPr>
          <a:xfrm>
            <a:off x="4610160" y="1268280"/>
            <a:ext cx="45687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F926-F0F5-4C0B-9FF2-03D57B91937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"/>
          <p:cNvSpPr/>
          <p:nvPr/>
        </p:nvSpPr>
        <p:spPr>
          <a:xfrm>
            <a:off x="-20520" y="-27000"/>
            <a:ext cx="45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Mevduat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ın seyri</a:t>
            </a: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6"/>
          <p:cNvSpPr/>
          <p:nvPr/>
        </p:nvSpPr>
        <p:spPr>
          <a:xfrm>
            <a:off x="400680" y="561492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552920" y="0"/>
            <a:ext cx="45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…</a:t>
            </a: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üyüme farkı azald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2" descr=""/>
          <p:cNvPicPr/>
          <p:nvPr/>
        </p:nvPicPr>
        <p:blipFill>
          <a:blip r:embed="rId1"/>
          <a:stretch/>
        </p:blipFill>
        <p:spPr>
          <a:xfrm>
            <a:off x="0" y="1365120"/>
            <a:ext cx="4560840" cy="2711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" descr=""/>
          <p:cNvPicPr/>
          <p:nvPr/>
        </p:nvPicPr>
        <p:blipFill>
          <a:blip r:embed="rId2"/>
          <a:stretch/>
        </p:blipFill>
        <p:spPr>
          <a:xfrm>
            <a:off x="4560840" y="1309680"/>
            <a:ext cx="45831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B7C6-FAC4-4FF4-BE18-5204FBF2A9F6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4551840" y="4635360"/>
            <a:ext cx="30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azine Müsteşarlığı, BDDK,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4610160" y="0"/>
            <a:ext cx="454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f7f7f"/>
                </a:solidFill>
                <a:latin typeface="Arial"/>
              </a:rPr>
              <a:t>TL kredi büyümesin</a:t>
            </a: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in üçte biri Hazine itfasın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0" y="0"/>
            <a:ext cx="45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Mevduatı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oranı düşü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4543560" y="1266840"/>
            <a:ext cx="4600440" cy="2954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" descr=""/>
          <p:cNvPicPr/>
          <p:nvPr/>
        </p:nvPicPr>
        <p:blipFill>
          <a:blip r:embed="rId2"/>
          <a:stretch/>
        </p:blipFill>
        <p:spPr>
          <a:xfrm>
            <a:off x="0" y="1266840"/>
            <a:ext cx="45720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8B5C-F621-47FE-8E35-D8B279E00A83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4610160" y="0"/>
            <a:ext cx="45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f7f7f"/>
                </a:solidFill>
                <a:latin typeface="Arial"/>
              </a:rPr>
              <a:t>Yurtdışı finansman önem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0" y="0"/>
            <a:ext cx="45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f7f7f"/>
                </a:solidFill>
                <a:latin typeface="Arial"/>
              </a:rPr>
              <a:t>Mevduat dışı kaynakların sey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4594320" y="1281240"/>
            <a:ext cx="4576680" cy="2868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0" y="1281240"/>
            <a:ext cx="459432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231B-328B-4F14-A412-79F0914D2CED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"/>
          <p:cNvSpPr/>
          <p:nvPr/>
        </p:nvSpPr>
        <p:spPr>
          <a:xfrm>
            <a:off x="-20520" y="-2700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Yabancı para kred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9" descr=""/>
          <p:cNvPicPr/>
          <p:nvPr/>
        </p:nvPicPr>
        <p:blipFill>
          <a:blip r:embed="rId1"/>
          <a:stretch/>
        </p:blipFill>
        <p:spPr>
          <a:xfrm>
            <a:off x="1440" y="1341360"/>
            <a:ext cx="4559400" cy="2820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4560840" y="1177920"/>
            <a:ext cx="458316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3203-3C5C-4EE1-AA97-98AF383F9FB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734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"/>
          <p:cNvSpPr/>
          <p:nvPr/>
        </p:nvSpPr>
        <p:spPr>
          <a:xfrm>
            <a:off x="-20520" y="-2700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Özkaynak büyümesi yavaşlad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256320" y="46530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1"/>
          <a:stretch/>
        </p:blipFill>
        <p:spPr>
          <a:xfrm>
            <a:off x="-20520" y="1268280"/>
            <a:ext cx="4592520" cy="2952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"/>
          <p:cNvPicPr/>
          <p:nvPr/>
        </p:nvPicPr>
        <p:blipFill>
          <a:blip r:embed="rId2"/>
          <a:stretch/>
        </p:blipFill>
        <p:spPr>
          <a:xfrm>
            <a:off x="4579920" y="1247760"/>
            <a:ext cx="45640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594A-AC0D-414C-9238-01E14EBF632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734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"/>
          <p:cNvSpPr/>
          <p:nvPr/>
        </p:nvSpPr>
        <p:spPr>
          <a:xfrm>
            <a:off x="-20520" y="-2700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Sermaye yeterliliğ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256320" y="46530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-11160" y="1260360"/>
            <a:ext cx="4572000" cy="2938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2"/>
          <a:stretch/>
        </p:blipFill>
        <p:spPr>
          <a:xfrm>
            <a:off x="4560840" y="1260360"/>
            <a:ext cx="458316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41EC-F382-4961-A360-5896A6A0285A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Konuşmanın içeriğ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5280" y="1270080"/>
            <a:ext cx="840744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Dünyada ve Türkiye’de ekonomik gelişme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Bankacılık sektöründeki gelişme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Özkaynaklar ve sektörün talepl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E25C-3203-41BE-B4FC-EA1A259973C3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Fiili sermaye yeterliliği yüzde 13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0" y="1225440"/>
            <a:ext cx="6084720" cy="39895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084360" y="1017720"/>
            <a:ext cx="302292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Mevcut eğili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devam eder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2018’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fiili sınıra ulaşılac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ya d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kredi büyüme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yavaşlayac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4D2D-2FCC-4439-B540-065A24F26177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914076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Özkaynakları sınırlandıran neden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2240" y="1017720"/>
            <a:ext cx="456876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Sadec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piyasalardaki dalgalanmaları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neden olduğu riskler vey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yönetim kararları değild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4570560" y="1017720"/>
            <a:ext cx="456876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Düzenleme değişiklikle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Sürdürülebilir karlılığı sınırlandıran yük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70c0"/>
                </a:solidFill>
                <a:latin typeface="Arial"/>
              </a:rPr>
              <a:t>Maliyet arttıran ek yük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70c0"/>
                </a:solidFill>
                <a:latin typeface="Arial"/>
              </a:rPr>
              <a:t>Gelir azaltan düzenlem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70c0"/>
                </a:solidFill>
                <a:latin typeface="Arial"/>
              </a:rPr>
              <a:t>Gri alanlarda cezalandırıcı yaklaşı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Tahsili gecikmiş alacaklarda artı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5826-675A-46D3-B942-3A0B883F4E1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734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"/>
          <p:cNvSpPr/>
          <p:nvPr/>
        </p:nvSpPr>
        <p:spPr>
          <a:xfrm>
            <a:off x="-20520" y="-27000"/>
            <a:ext cx="45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Faiz marjı düşerk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256320" y="46530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4548240" y="0"/>
            <a:ext cx="45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Faiz dış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m</a:t>
            </a: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arj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ın katkısı da azalı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0" descr=""/>
          <p:cNvPicPr/>
          <p:nvPr/>
        </p:nvPicPr>
        <p:blipFill>
          <a:blip r:embed="rId1"/>
          <a:stretch/>
        </p:blipFill>
        <p:spPr>
          <a:xfrm>
            <a:off x="0" y="1289160"/>
            <a:ext cx="4560840" cy="2860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"/>
          <p:cNvPicPr/>
          <p:nvPr/>
        </p:nvPicPr>
        <p:blipFill>
          <a:blip r:embed="rId2"/>
          <a:stretch/>
        </p:blipFill>
        <p:spPr>
          <a:xfrm>
            <a:off x="4572000" y="1316160"/>
            <a:ext cx="457200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E526-1E91-48A1-B9A0-F67C7CFA3E1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3120" y="-19080"/>
            <a:ext cx="45385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Faiz marjının düşmesi beklenen bir du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578480" y="0"/>
            <a:ext cx="4538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Risk için ayrılan karşılı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0" y="1482840"/>
            <a:ext cx="453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Faiz oranları yükselir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sağlıklı ve faize duyarlı müşterilerin kredi talebi azalı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büyüme hızı yava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kredi kalitesi düşer</a:t>
            </a:r>
            <a:r>
              <a:rPr b="1" lang="en-US" sz="2400" spc="-1" strike="noStrike">
                <a:solidFill>
                  <a:srgbClr val="19194d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riskler için karşılıklar artar</a:t>
            </a:r>
            <a:r>
              <a:rPr b="1" lang="en-US" sz="2400" spc="-1" strike="noStrike">
                <a:solidFill>
                  <a:srgbClr val="1919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4572000" y="1187280"/>
            <a:ext cx="45720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47F9-2517-409F-A09C-0340BE487CEB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3120" y="-19080"/>
            <a:ext cx="45385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Net özkaynak karlılığı düşü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4578480" y="0"/>
            <a:ext cx="45385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Sermayenin getirisi maliyetin altı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"/>
          <p:cNvPicPr/>
          <p:nvPr/>
        </p:nvPicPr>
        <p:blipFill>
          <a:blip r:embed="rId1"/>
          <a:stretch/>
        </p:blipFill>
        <p:spPr>
          <a:xfrm>
            <a:off x="-33480" y="1303200"/>
            <a:ext cx="4577040" cy="2846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"/>
          <p:cNvPicPr/>
          <p:nvPr/>
        </p:nvPicPr>
        <p:blipFill>
          <a:blip r:embed="rId2"/>
          <a:stretch/>
        </p:blipFill>
        <p:spPr>
          <a:xfrm>
            <a:off x="4578480" y="1303200"/>
            <a:ext cx="456552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9063-F839-4AAE-8779-845736198AAA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0"/>
            <a:ext cx="9136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Sermayeye sahip çıkma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ekonominin geleceğine sahip çıkmaktı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"/>
          <p:cNvSpPr/>
          <p:nvPr/>
        </p:nvSpPr>
        <p:spPr>
          <a:xfrm>
            <a:off x="9360" y="1494000"/>
            <a:ext cx="913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b050"/>
                </a:solidFill>
                <a:latin typeface="Arial"/>
              </a:rPr>
              <a:t>Net karın tamamı özkaynağa ekleniyor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b050"/>
                </a:solidFill>
                <a:latin typeface="Arial"/>
              </a:rPr>
              <a:t>krediye ve büyümeye dönüşüy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250920" y="3451320"/>
            <a:ext cx="864216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C4F2-7278-428F-BF56-03CD5A67FED1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Özkaynakların öne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-360" y="1267920"/>
            <a:ext cx="456876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Kredi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 büyümesinin </a:t>
            </a: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sürdürülme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Uluslararası rekabet gücünün artmas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Şoklara dayanma gücünün korunmas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Sıkılaşan uluslararası kurallara uy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641840" y="1268280"/>
            <a:ext cx="456876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70c0"/>
                </a:solidFill>
                <a:latin typeface="Arial"/>
              </a:rPr>
              <a:t>Özkaynakların güçlendirilmesi gerek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1114-2149-4424-BDB0-842FE8C57FCA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Piyasa değe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248040" y="4592520"/>
            <a:ext cx="222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orsa İstanbu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-11160" y="1276200"/>
            <a:ext cx="4583160" cy="2873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2"/>
          <a:stretch/>
        </p:blipFill>
        <p:spPr>
          <a:xfrm>
            <a:off x="4559400" y="1262160"/>
            <a:ext cx="45846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3D72-5A3D-4C95-8D60-DAF2A9CE919E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6"/>
          <p:cNvSpPr/>
          <p:nvPr/>
        </p:nvSpPr>
        <p:spPr>
          <a:xfrm>
            <a:off x="183600" y="4581360"/>
            <a:ext cx="184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orsa İstanb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itle 1"/>
          <p:cNvSpPr/>
          <p:nvPr/>
        </p:nvSpPr>
        <p:spPr>
          <a:xfrm>
            <a:off x="-3240" y="44280"/>
            <a:ext cx="4568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Bankalar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da 1’in altı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" descr=""/>
          <p:cNvPicPr/>
          <p:nvPr/>
        </p:nvPicPr>
        <p:blipFill>
          <a:blip r:embed="rId1"/>
          <a:stretch/>
        </p:blipFill>
        <p:spPr>
          <a:xfrm>
            <a:off x="0" y="1333440"/>
            <a:ext cx="4568760" cy="2857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" descr=""/>
          <p:cNvPicPr/>
          <p:nvPr/>
        </p:nvPicPr>
        <p:blipFill>
          <a:blip r:embed="rId2"/>
          <a:stretch/>
        </p:blipFill>
        <p:spPr>
          <a:xfrm>
            <a:off x="4572000" y="1306440"/>
            <a:ext cx="4572000" cy="2884680"/>
          </a:xfrm>
          <a:prstGeom prst="rect">
            <a:avLst/>
          </a:prstGeom>
          <a:ln w="0">
            <a:noFill/>
          </a:ln>
        </p:spPr>
      </p:pic>
      <p:sp>
        <p:nvSpPr>
          <p:cNvPr id="245" name="Title 1"/>
          <p:cNvSpPr/>
          <p:nvPr/>
        </p:nvSpPr>
        <p:spPr>
          <a:xfrm>
            <a:off x="4575240" y="47520"/>
            <a:ext cx="45687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Karlılık bankalar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daha yüksek değ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6"/>
          <p:cNvSpPr/>
          <p:nvPr/>
        </p:nvSpPr>
        <p:spPr>
          <a:xfrm>
            <a:off x="4530240" y="4568760"/>
            <a:ext cx="25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orsa İstanbu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İSO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CB52-F8DC-440D-9F26-12AB7EE7EFC8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Düzenlemeler etkili ve maliyet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9880" y="1196640"/>
            <a:ext cx="886284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Gelişmişlik farkı gözetilm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ankaların yapısını, davranışını ve maliyetini etkil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üşterileri ve ekonomiyi etkil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ürekli değişiklik uyum sürecini, iş modellerini etkil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4572000" y="1197000"/>
            <a:ext cx="43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7F1D-B4C9-43C3-A241-9AE987D7300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Küresel r</a:t>
            </a: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iskler yüksek ve dalgal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440" y="808200"/>
            <a:ext cx="454032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Belirsizlik ve riskler yüksek, risk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iştahı</a:t>
            </a: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 dalgal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Büyüme ve ticaret hacmi artışı yava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Gelişmiş ülkelerde farklılaşan para politikas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GOÜ’den s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ermaye </a:t>
            </a: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çıkış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Küresel para ve sermaye piyasaları dalgal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Risk primleri yükse</a:t>
            </a: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62640" y="692280"/>
            <a:ext cx="45417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573440" y="765000"/>
            <a:ext cx="432144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2B93-68EE-4F63-B743-E62BF1BD933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4572000" y="1197000"/>
            <a:ext cx="43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-74520" y="0"/>
            <a:ext cx="92185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TBB’nin taleb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0" y="909720"/>
            <a:ext cx="91504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BDDK’nın görüşü alınmalı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koordinasyon sağlan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Olağanüstü durumlar tanımlan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Basit, uygulanabilir, tutarl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ol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Sektörü büyütmeli, rekabet gücünü destekle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Özkaynakları güçlendir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Teknolojik ürün ve hizmetleri destekle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F67D-C501-4C63-A47A-25EF4BED5D2B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TBB’nin taleb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480" y="879480"/>
            <a:ext cx="889632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Alacakların tahsilatını hızlandır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Kredi verme iştahını düşürme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Risk yönetiminde rehber olmalı, riskin alınmasına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müdahale etme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Risk primini düşür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Güven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sağla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Piyasaları büyütmeli ve derinleştiril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84C9-6CBC-4A5B-B782-6C5D7F83ADA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789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Finansal istikrar ve büyü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15840" y="1268280"/>
            <a:ext cx="45925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İşletmeler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bireyler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kredi ve bankacılık hizm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taleplerinin karşılanmas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finansal istikrarı tanım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4572000" y="1262160"/>
            <a:ext cx="45925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Mevcut kredilerin çevril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alacakların zamanında tahsil edilmesine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yeni kredilerin veril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ekonomide büyümenin sürekliliğine bağlıdı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575D-70F8-4FE5-9303-FA87103D3B9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789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Reform; </a:t>
            </a:r>
            <a:br>
              <a:rPr sz="3600"/>
            </a:b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rekabet, büyüme ve refah artışı demekt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5840" y="1268280"/>
            <a:ext cx="45925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Sağlam makro d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Hızlanan reform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Sağlıklı bankacılı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0" y="1262160"/>
            <a:ext cx="45925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Öngörülebilirl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Büyüme potansiy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Refah artış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9872-AC97-4D65-8BAD-D14D81C67FE5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789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Ülkemizin geleceğine </a:t>
            </a:r>
            <a:br>
              <a:rPr sz="3600"/>
            </a:b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inanıyor ve güveniyoru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15840" y="1268280"/>
            <a:ext cx="45561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İyimser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Beklentilerimiz olum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İhtiyatlıyı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0" y="1262160"/>
            <a:ext cx="45925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Gerçekçi bir yaklaşıml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riskleri v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fırsatlar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birlik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değerlendiriyor, yönetiyoru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5117-7FBB-4447-8862-67CC2C468173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Türkiye’nin geleceğine yatırıma dev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6640" y="942480"/>
            <a:ext cx="893772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İstikrardan ve büyümeden güç alan bankacılı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zorluklara ve giderek sıkılaşan kurallara rağm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ihtiyatlı bir yaklaşım için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kredileri reel olarak arttıra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Türkiye’nin geleceğine yatırım  yapıyor</a:t>
            </a: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u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DEB2-36D1-49F1-9632-A00F8D5090E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Şükran ve teşekkü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239760" y="836640"/>
            <a:ext cx="43275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Bankacılık sektörü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büyüme potansiyeli</a:t>
            </a:r>
            <a:r>
              <a:rPr b="1" lang="en-US" sz="2700" spc="-1" strike="noStrike">
                <a:solidFill>
                  <a:srgbClr val="19194d"/>
                </a:solidFill>
                <a:latin typeface="Arial"/>
              </a:rPr>
              <a:t>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sağlıklı bilanço yapısı</a:t>
            </a:r>
            <a:r>
              <a:rPr b="1" lang="en-US" sz="2700" spc="-1" strike="noStrike">
                <a:solidFill>
                  <a:srgbClr val="19194d"/>
                </a:solidFill>
                <a:latin typeface="Arial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ürün ve hizmet kalitesi</a:t>
            </a:r>
            <a:r>
              <a:rPr b="1" lang="en-US" sz="2700" spc="-1" strike="noStrike">
                <a:solidFill>
                  <a:srgbClr val="19194d"/>
                </a:solidFill>
                <a:latin typeface="Arial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yönetim tecrübesi</a:t>
            </a:r>
            <a:r>
              <a:rPr b="1" lang="en-US" sz="2700" spc="-1" strike="noStrike">
                <a:solidFill>
                  <a:srgbClr val="19194d"/>
                </a:solidFill>
                <a:latin typeface="Arial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iyi eğitimli insan kaynağı i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istikrara ve büyümeye katkı verd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4567320" y="836640"/>
            <a:ext cx="45766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Emeği geçen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kişi ve kuruluşlara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bankalarımıza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sermayedarlarımıza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yöneticilerimize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çalışanlarımıza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şükranlarımızı sunar</a:t>
            </a:r>
            <a:r>
              <a:rPr b="1" lang="en-US" sz="2700" spc="-1" strike="noStrike">
                <a:solidFill>
                  <a:srgbClr val="0070c0"/>
                </a:solidFill>
                <a:latin typeface="Arial"/>
              </a:rPr>
              <a:t>ız.</a:t>
            </a: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702B-5B40-4667-8CF4-61E551AEC587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itle 1"/>
          <p:cNvSpPr/>
          <p:nvPr/>
        </p:nvSpPr>
        <p:spPr>
          <a:xfrm>
            <a:off x="971640" y="2421000"/>
            <a:ext cx="7200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2060"/>
                </a:solidFill>
                <a:latin typeface="Arial"/>
              </a:rPr>
              <a:t>Teşekkür ederiz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A128-B83A-4429-8E87-F120D90848A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Türkiye’de büyüme hızland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7000" y="942480"/>
            <a:ext cx="45720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Gsyh yüzde 4 büyüd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Tasarruf oranı</a:t>
            </a: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yüksel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Bütçe disiplini sürd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Kamunun borç stoku/gsyh oranı düşt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Net sermaye girişi old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Finansal sektör işlevini sürdürd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599000" y="942840"/>
            <a:ext cx="385128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Gıda fiyatları ve zayıf TL nedeniyle e</a:t>
            </a: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nflasyon yüksek kald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TL reel olarak değer kaybet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Likidite sıkılaştırıld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Faiz oranları yüksel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2A13-25D9-4B78-BE44-B2D3D0DA6ECA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Bilanço büyümesi yavaşlıy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5760" y="4437000"/>
            <a:ext cx="176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DD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UİK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1440" y="1268280"/>
            <a:ext cx="4570560" cy="2881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4572000" y="1268280"/>
            <a:ext cx="4572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2BCC-8174-4547-826F-42A5CAD7D65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Ölçek küç</a:t>
            </a: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ü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1697400" y="4437000"/>
            <a:ext cx="187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lbanks.com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1738440" y="1238400"/>
            <a:ext cx="571320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3A32-6631-4520-93BB-A18B34ADB3FD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-2700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Bilanço yapısında değiş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668600" y="1268280"/>
            <a:ext cx="57830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5FE7-2FB5-4AA4-BE86-6DFEE5C0C227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Kredilerin sey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293040" y="4938840"/>
            <a:ext cx="140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BDDK, TB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0" y="1303200"/>
            <a:ext cx="4572000" cy="2846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2"/>
          <a:stretch/>
        </p:blipFill>
        <p:spPr>
          <a:xfrm>
            <a:off x="20520" y="1270080"/>
            <a:ext cx="45514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9C0F-D531-48DF-97B1-6953CDDFCCAA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15840" y="439596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4503600" y="0"/>
            <a:ext cx="45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Kurumsal kred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0" y="14400"/>
            <a:ext cx="4586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Bireysel krediler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p</a:t>
            </a: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ayı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 öngörülenin altı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4572000" y="1268280"/>
            <a:ext cx="4572000" cy="28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0" y="1268280"/>
            <a:ext cx="4572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7:33:45Z</dcterms:created>
  <dc:creator>Sirin Mutluturk</dc:creator>
  <dc:description/>
  <dc:language>en-US</dc:language>
  <cp:lastModifiedBy>Ekrem Keskin</cp:lastModifiedBy>
  <cp:lastPrinted>2016-05-24T10:29:15Z</cp:lastPrinted>
  <dcterms:modified xsi:type="dcterms:W3CDTF">2016-05-25T06:48:50Z</dcterms:modified>
  <cp:revision>638</cp:revision>
  <dc:subject/>
  <dc:title>Slide 1</dc:title>
</cp:coreProperties>
</file>